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caralarmoff.wav" ContentType="audio/x-wav"/>
  <Override PartName="/ppt/media/lzipup01.wav" ContentType="audio/x-wav"/>
  <Override PartName="/ppt/media/jetflyby2.wav" ContentType="audio/x-wav"/>
  <Override PartName="/ppt/media/bserie06.wav" ContentType="audio/x-wav"/>
  <Override PartName="/ppt/media/highchime.wav" ContentType="audio/x-wav"/>
  <Override PartName="/ppt/media/hzipup01.wav" ContentType="audio/x-wav"/>
  <Override PartName="/ppt/media/zipby102.wav" ContentType="audio/x-wav"/>
  <Override PartName="/ppt/media/boinng04.wav" ContentType="audio/x-wav"/>
  <Override PartName="/ppt/media/fastcar.wav" ContentType="audio/x-wav"/>
  <Override PartName="/ppt/media/zapvib04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02B5-21D2-4CFE-A1DC-450962C71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02A8-D653-4825-9F5A-790BC839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CE88-03ED-4634-9110-35F74850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5C12-9F92-48FF-B85C-62FDDB1E6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B264-04B7-4499-81A9-3C35ABE7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36B1-5208-4E65-8360-2227CBE5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56D3-24D7-4506-8F31-89915F5D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B2D9-2A98-4EB1-A762-610E934B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FF9E-6AEA-4722-86DA-9951773C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86E5-CFEE-46D2-9580-45968EE5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EDD2-3F85-4EDA-931B-84EB8B58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411A-DEF9-4E1B-A7DD-3DF92D54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10CB-974E-49B9-8FBB-B8A01B3D2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caralarmoff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bserie06.wav"/><Relationship Id="rId6" Type="http://schemas.openxmlformats.org/officeDocument/2006/relationships/audio" Target="../media/zapbig0g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bserie06.wav"/><Relationship Id="rId11" Type="http://schemas.openxmlformats.org/officeDocument/2006/relationships/audio" Target="../media/zapbig0g.wav"/><Relationship Id="rId12" Type="http://schemas.openxmlformats.org/officeDocument/2006/relationships/audio" Target="../media/jetflyby2.wav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jetflyby2.wav"/><Relationship Id="rId3" Type="http://schemas.openxmlformats.org/officeDocument/2006/relationships/audio" Target="../media/fastcar.wav"/><Relationship Id="rId4" Type="http://schemas.openxmlformats.org/officeDocument/2006/relationships/audio" Target="../media/bserie06.wav"/><Relationship Id="rId5" Type="http://schemas.openxmlformats.org/officeDocument/2006/relationships/audio" Target="../media/fastcar.wav"/><Relationship Id="rId6" Type="http://schemas.openxmlformats.org/officeDocument/2006/relationships/audio" Target="../media/fastcar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jetflyby2.wav"/><Relationship Id="rId3" Type="http://schemas.openxmlformats.org/officeDocument/2006/relationships/audio" Target="../media/fastcar.wav"/><Relationship Id="rId4" Type="http://schemas.openxmlformats.org/officeDocument/2006/relationships/audio" Target="../media/bserie06.wav"/><Relationship Id="rId5" Type="http://schemas.openxmlformats.org/officeDocument/2006/relationships/audio" Target="../media/fastcar.wav"/><Relationship Id="rId6" Type="http://schemas.openxmlformats.org/officeDocument/2006/relationships/audio" Target="../media/fastcar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highchime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hzipup01.wav"/><Relationship Id="rId6" Type="http://schemas.openxmlformats.org/officeDocument/2006/relationships/audio" Target="../media/bserie06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zipup01.wav"/><Relationship Id="rId5" Type="http://schemas.openxmlformats.org/officeDocument/2006/relationships/audio" Target="../media/bserie06.wav"/><Relationship Id="rId6" Type="http://schemas.openxmlformats.org/officeDocument/2006/relationships/audio" Target="../media/hzipup01.wav"/><Relationship Id="rId7" Type="http://schemas.openxmlformats.org/officeDocument/2006/relationships/audio" Target="../media/bserie06.wav"/><Relationship Id="rId8" Type="http://schemas.openxmlformats.org/officeDocument/2006/relationships/audio" Target="../media/hzipup01.wav"/><Relationship Id="rId9" Type="http://schemas.openxmlformats.org/officeDocument/2006/relationships/audio" Target="../media/bserie06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zipby102.wav"/><Relationship Id="rId2" Type="http://schemas.openxmlformats.org/officeDocument/2006/relationships/audio" Target="../media/caralarmoff.wav"/><Relationship Id="rId3" Type="http://schemas.openxmlformats.org/officeDocument/2006/relationships/audio" Target="../media/caralarmoff.wav"/><Relationship Id="rId4" Type="http://schemas.openxmlformats.org/officeDocument/2006/relationships/audio" Target="../media/highchime.wav"/><Relationship Id="rId5" Type="http://schemas.openxmlformats.org/officeDocument/2006/relationships/audio" Target="../media/boinng04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oinng04.wav"/><Relationship Id="rId9" Type="http://schemas.openxmlformats.org/officeDocument/2006/relationships/audio" Target="../media/zapbig0g.wav"/><Relationship Id="rId10" Type="http://schemas.openxmlformats.org/officeDocument/2006/relationships/audio" Target="../media/highchime.wav"/><Relationship Id="rId11" Type="http://schemas.openxmlformats.org/officeDocument/2006/relationships/audio" Target="../media/boinng04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boinng04.wav"/><Relationship Id="rId15" Type="http://schemas.openxmlformats.org/officeDocument/2006/relationships/audio" Target="../media/zapbig0g.wav"/><Relationship Id="rId16" Type="http://schemas.openxmlformats.org/officeDocument/2006/relationships/audio" Target="../media/highchime.wav"/><Relationship Id="rId17" Type="http://schemas.openxmlformats.org/officeDocument/2006/relationships/audio" Target="../media/boinng04.wav"/><Relationship Id="rId18" Type="http://schemas.openxmlformats.org/officeDocument/2006/relationships/audio" Target="../media/bserie06.wav"/><Relationship Id="rId19" Type="http://schemas.openxmlformats.org/officeDocument/2006/relationships/audio" Target="../media/bserie06.wav"/><Relationship Id="rId20" Type="http://schemas.openxmlformats.org/officeDocument/2006/relationships/audio" Target="../media/boinng04.wav"/><Relationship Id="rId21" Type="http://schemas.openxmlformats.org/officeDocument/2006/relationships/audio" Target="../media/zapbig0g.wav"/><Relationship Id="rId22" Type="http://schemas.openxmlformats.org/officeDocument/2006/relationships/audio" Target="../media/highchime.wav"/><Relationship Id="rId23" Type="http://schemas.openxmlformats.org/officeDocument/2006/relationships/audio" Target="../media/bserie06.wav"/><Relationship Id="rId24" Type="http://schemas.openxmlformats.org/officeDocument/2006/relationships/audio" Target="../media/bserie06.wav"/><Relationship Id="rId25" Type="http://schemas.openxmlformats.org/officeDocument/2006/relationships/audio" Target="../media/boinng04.wav"/><Relationship Id="rId26" Type="http://schemas.openxmlformats.org/officeDocument/2006/relationships/audio" Target="../media/zapvib04.wav"/><Relationship Id="rId27" Type="http://schemas.openxmlformats.org/officeDocument/2006/relationships/audio" Target="../media/zapbig0g.wav"/><Relationship Id="rId2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oinng04.wav"/><Relationship Id="rId6" Type="http://schemas.openxmlformats.org/officeDocument/2006/relationships/audio" Target="../media/zapvib04.wav"/><Relationship Id="rId7" Type="http://schemas.openxmlformats.org/officeDocument/2006/relationships/audio" Target="../media/zapbig0g.wav"/><Relationship Id="rId8" Type="http://schemas.openxmlformats.org/officeDocument/2006/relationships/audio" Target="../media/highchime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boinng04.wav"/><Relationship Id="rId12" Type="http://schemas.openxmlformats.org/officeDocument/2006/relationships/audio" Target="../media/zapbig0g.wav"/><Relationship Id="rId13" Type="http://schemas.openxmlformats.org/officeDocument/2006/relationships/audio" Target="../media/highchime.wav"/><Relationship Id="rId14" Type="http://schemas.openxmlformats.org/officeDocument/2006/relationships/audio" Target="../media/bserie06.wav"/><Relationship Id="rId15" Type="http://schemas.openxmlformats.org/officeDocument/2006/relationships/audio" Target="../media/bserie06.wav"/><Relationship Id="rId16" Type="http://schemas.openxmlformats.org/officeDocument/2006/relationships/audio" Target="../media/boinng04.wav"/><Relationship Id="rId17" Type="http://schemas.openxmlformats.org/officeDocument/2006/relationships/audio" Target="../media/zapbig0g.wav"/><Relationship Id="rId18" Type="http://schemas.openxmlformats.org/officeDocument/2006/relationships/audio" Target="../media/highchime.wav"/><Relationship Id="rId19" Type="http://schemas.openxmlformats.org/officeDocument/2006/relationships/audio" Target="../media/bserie06.wav"/><Relationship Id="rId20" Type="http://schemas.openxmlformats.org/officeDocument/2006/relationships/audio" Target="../media/bserie06.wav"/><Relationship Id="rId21" Type="http://schemas.openxmlformats.org/officeDocument/2006/relationships/audio" Target="../media/boinng04.wav"/><Relationship Id="rId22" Type="http://schemas.openxmlformats.org/officeDocument/2006/relationships/audio" Target="../media/zapbig0g.wav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zipby102.wav"/><Relationship Id="rId2" Type="http://schemas.openxmlformats.org/officeDocument/2006/relationships/audio" Target="../media/caralarmoff.wav"/><Relationship Id="rId3" Type="http://schemas.openxmlformats.org/officeDocument/2006/relationships/audio" Target="../media/caralarmoff.wav"/><Relationship Id="rId4" Type="http://schemas.openxmlformats.org/officeDocument/2006/relationships/audio" Target="../media/highchime.wav"/><Relationship Id="rId5" Type="http://schemas.openxmlformats.org/officeDocument/2006/relationships/audio" Target="../media/hzipup01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highchime.wav"/><Relationship Id="rId12" Type="http://schemas.openxmlformats.org/officeDocument/2006/relationships/audio" Target="../media/hzipup01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audio" Target="../media/bserie06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zipup01.wav"/><Relationship Id="rId3" Type="http://schemas.openxmlformats.org/officeDocument/2006/relationships/audio" Target="../media/bserie06.wav"/><Relationship Id="rId4" Type="http://schemas.openxmlformats.org/officeDocument/2006/relationships/audio" Target="../media/zapbig0g.wav"/><Relationship Id="rId5" Type="http://schemas.openxmlformats.org/officeDocument/2006/relationships/audio" Target="../media/hzipup01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zapbig0g.wav"/><Relationship Id="rId4" Type="http://schemas.openxmlformats.org/officeDocument/2006/relationships/audio" Target="../media/highchime.wav"/><Relationship Id="rId5" Type="http://schemas.openxmlformats.org/officeDocument/2006/relationships/audio" Target="../media/zapbig0g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jetflyby2.wav"/><Relationship Id="rId3" Type="http://schemas.openxmlformats.org/officeDocument/2006/relationships/audio" Target="../media/fastcar.wav"/><Relationship Id="rId4" Type="http://schemas.openxmlformats.org/officeDocument/2006/relationships/audio" Target="../media/bserie06.wav"/><Relationship Id="rId5" Type="http://schemas.openxmlformats.org/officeDocument/2006/relationships/audio" Target="../media/fastcar.wav"/><Relationship Id="rId6" Type="http://schemas.openxmlformats.org/officeDocument/2006/relationships/audio" Target="../media/fastcar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871560" y="2505240"/>
                <a:ext cx="1343160" cy="19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Percents –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er 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927000" y="3611520"/>
                <a:ext cx="12448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276120" y="143820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Write a percent for each rat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41440" y="3198960"/>
            <a:ext cx="9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Georgi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919240" y="3116160"/>
                <a:ext cx="12319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304920" y="1940040"/>
            <a:ext cx="258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9 to 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164200" y="2482920"/>
                <a:ext cx="1398600" cy="19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5246640" y="3589200"/>
                <a:ext cx="12445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6545160" y="3176640"/>
            <a:ext cx="9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Georgi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6967440" y="3049560"/>
                <a:ext cx="19591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4842000" y="1917720"/>
            <a:ext cx="258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148 : 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00040" y="3017880"/>
                <a:ext cx="2295720" cy="20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ractions and Perc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3525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Georgia"/>
              </a:rPr>
              <a:t>Write a percent for each fraction or mixed numb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941560" y="3009960"/>
                <a:ext cx="2014560" cy="20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838600" y="5459400"/>
                <a:ext cx="8953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863800" y="1871640"/>
                <a:ext cx="8985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85" name=""/>
          <p:cNvCxnSpPr/>
          <p:nvPr/>
        </p:nvCxnSpPr>
        <p:spPr>
          <a:xfrm flipH="1" rot="16200000">
            <a:off x="3280320" y="3916080"/>
            <a:ext cx="38880" cy="2096280"/>
          </a:xfrm>
          <a:prstGeom prst="curvedConnector5">
            <a:avLst>
              <a:gd name="adj1" fmla="val 1307476"/>
              <a:gd name="adj2" fmla="val 50000"/>
              <a:gd name="adj3" fmla="val 130747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 flipH="1" rot="16200000">
            <a:off x="3317040" y="2125440"/>
            <a:ext cx="38880" cy="2096280"/>
          </a:xfrm>
          <a:prstGeom prst="curvedConnector5">
            <a:avLst>
              <a:gd name="adj1" fmla="val -1474766"/>
              <a:gd name="adj2" fmla="val 50000"/>
              <a:gd name="adj3" fmla="val -147476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911760" y="3206880"/>
                <a:ext cx="61740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308560" y="3573360"/>
                <a:ext cx="18558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49120" y="3017880"/>
                <a:ext cx="2686320" cy="20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ractions and Perc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3525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Georgia"/>
              </a:rPr>
              <a:t>Write a percent for each fraction or mixed numb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774880" y="3009960"/>
                <a:ext cx="2349720" cy="20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838600" y="5459400"/>
                <a:ext cx="8953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863800" y="1871640"/>
                <a:ext cx="8985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96" name=""/>
          <p:cNvCxnSpPr/>
          <p:nvPr/>
        </p:nvCxnSpPr>
        <p:spPr>
          <a:xfrm flipH="1" rot="16200000">
            <a:off x="3280320" y="3916080"/>
            <a:ext cx="38880" cy="2096280"/>
          </a:xfrm>
          <a:prstGeom prst="curvedConnector5">
            <a:avLst>
              <a:gd name="adj1" fmla="val 1307476"/>
              <a:gd name="adj2" fmla="val 50000"/>
              <a:gd name="adj3" fmla="val 130747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/>
          <p:nvPr/>
        </p:nvCxnSpPr>
        <p:spPr>
          <a:xfrm flipH="1" rot="16200000">
            <a:off x="3317040" y="2125440"/>
            <a:ext cx="38880" cy="2096280"/>
          </a:xfrm>
          <a:prstGeom prst="curvedConnector5">
            <a:avLst>
              <a:gd name="adj1" fmla="val -1474766"/>
              <a:gd name="adj2" fmla="val 50000"/>
              <a:gd name="adj3" fmla="val -147476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097160" y="3178080"/>
                <a:ext cx="56232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103720" y="3559320"/>
                <a:ext cx="25876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137952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49, 10 – 3 #1-10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51, 10 – 4 #1-16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53, 10 – 5 #1-2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Percents –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er 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6120" y="143820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Write a percent for each rat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511520" y="3251160"/>
                <a:ext cx="1341720" cy="19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565520" y="4357800"/>
                <a:ext cx="124488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5864400" y="3944880"/>
            <a:ext cx="92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Georgi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6440400" y="3890880"/>
                <a:ext cx="16225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3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196920" y="2019240"/>
            <a:ext cx="258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755640" y="2211480"/>
          <a:ext cx="3017880" cy="3017880"/>
        </p:xfrm>
        <a:graphic>
          <a:graphicData uri="http://schemas.openxmlformats.org/drawingml/2006/table">
            <a:tbl>
              <a:tblPr/>
              <a:tblGrid>
                <a:gridCol w="301680"/>
                <a:gridCol w="301680"/>
                <a:gridCol w="301680"/>
                <a:gridCol w="301320"/>
                <a:gridCol w="303480"/>
                <a:gridCol w="301680"/>
                <a:gridCol w="301320"/>
                <a:gridCol w="301680"/>
                <a:gridCol w="301680"/>
                <a:gridCol w="301680"/>
              </a:tblGrid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4487760" y="205596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83 parts shad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62480" y="262908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100 parts in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Percents –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er 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6120" y="143820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Write a percent for each rat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841320" y="4897440"/>
                <a:ext cx="1397160" cy="19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922320" y="6004080"/>
                <a:ext cx="124452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6226200" y="5576760"/>
            <a:ext cx="9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Georgi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6692760" y="5464080"/>
                <a:ext cx="19591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7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225360" y="1816200"/>
            <a:ext cx="258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784080" y="2008080"/>
          <a:ext cx="3017880" cy="3017880"/>
        </p:xfrm>
        <a:graphic>
          <a:graphicData uri="http://schemas.openxmlformats.org/drawingml/2006/table">
            <a:tbl>
              <a:tblPr/>
              <a:tblGrid>
                <a:gridCol w="301680"/>
                <a:gridCol w="301680"/>
                <a:gridCol w="301680"/>
                <a:gridCol w="301320"/>
                <a:gridCol w="303480"/>
                <a:gridCol w="301680"/>
                <a:gridCol w="301320"/>
                <a:gridCol w="301680"/>
                <a:gridCol w="301680"/>
                <a:gridCol w="301680"/>
              </a:tblGrid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4246560" y="2000160"/>
          <a:ext cx="3017880" cy="3017880"/>
        </p:xfrm>
        <a:graphic>
          <a:graphicData uri="http://schemas.openxmlformats.org/drawingml/2006/table">
            <a:tbl>
              <a:tblPr/>
              <a:tblGrid>
                <a:gridCol w="301320"/>
                <a:gridCol w="301680"/>
                <a:gridCol w="301680"/>
                <a:gridCol w="301680"/>
                <a:gridCol w="303120"/>
                <a:gridCol w="301680"/>
                <a:gridCol w="301680"/>
                <a:gridCol w="301680"/>
                <a:gridCol w="301680"/>
                <a:gridCol w="301680"/>
              </a:tblGrid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151000" y="4897440"/>
                <a:ext cx="1955880" cy="19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759040" y="6045120"/>
                <a:ext cx="12445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162320" y="4897440"/>
                <a:ext cx="2013120" cy="19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799160" y="6045120"/>
                <a:ext cx="12445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522360" y="1935000"/>
                <a:ext cx="25192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8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Percents and Decim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Write a decimal for each per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282680" y="3051000"/>
                <a:ext cx="15717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2279520" y="2530440"/>
            <a:ext cx="88920" cy="88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5"/>
          </p:cNvCxnSpPr>
          <p:nvPr/>
        </p:nvCxnSpPr>
        <p:spPr>
          <a:xfrm flipV="1" rot="16200000">
            <a:off x="2109960" y="2389320"/>
            <a:ext cx="6840" cy="484920"/>
          </a:xfrm>
          <a:prstGeom prst="curvedConnector5">
            <a:avLst>
              <a:gd name="adj1" fmla="val -3350000"/>
              <a:gd name="adj2" fmla="val 50000"/>
              <a:gd name="adj3" fmla="val -33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/>
          <p:nvPr/>
        </p:nvCxnSpPr>
        <p:spPr>
          <a:xfrm flipV="1" rot="16200000">
            <a:off x="1648080" y="2392560"/>
            <a:ext cx="7200" cy="484920"/>
          </a:xfrm>
          <a:prstGeom prst="curvedConnector5">
            <a:avLst>
              <a:gd name="adj1" fmla="val -3347368"/>
              <a:gd name="adj2" fmla="val 50000"/>
              <a:gd name="adj3" fmla="val -334736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1386000" y="2509920"/>
            <a:ext cx="88920" cy="88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156280" y="1927080"/>
                <a:ext cx="24638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2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889600" y="3043080"/>
                <a:ext cx="15717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6886440" y="2522520"/>
            <a:ext cx="88920" cy="88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90" idx="5"/>
          </p:cNvCxnSpPr>
          <p:nvPr/>
        </p:nvCxnSpPr>
        <p:spPr>
          <a:xfrm flipV="1" rot="16200000">
            <a:off x="6716880" y="2381400"/>
            <a:ext cx="7200" cy="484920"/>
          </a:xfrm>
          <a:prstGeom prst="curvedConnector5">
            <a:avLst>
              <a:gd name="adj1" fmla="val -3347368"/>
              <a:gd name="adj2" fmla="val 50000"/>
              <a:gd name="adj3" fmla="val -334736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/>
          <p:nvPr/>
        </p:nvCxnSpPr>
        <p:spPr>
          <a:xfrm flipV="1" rot="16200000">
            <a:off x="6255000" y="2384640"/>
            <a:ext cx="7200" cy="484920"/>
          </a:xfrm>
          <a:prstGeom prst="curvedConnector5">
            <a:avLst>
              <a:gd name="adj1" fmla="val -3347368"/>
              <a:gd name="adj2" fmla="val 50000"/>
              <a:gd name="adj3" fmla="val -334736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5992920" y="2502000"/>
            <a:ext cx="88920" cy="88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96800" y="4213080"/>
                <a:ext cx="28558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75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365120" y="5342040"/>
                <a:ext cx="146052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2611440" y="4851360"/>
            <a:ext cx="88920" cy="88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6" idx="5"/>
          </p:cNvCxnSpPr>
          <p:nvPr/>
        </p:nvCxnSpPr>
        <p:spPr>
          <a:xfrm flipV="1" rot="16200000">
            <a:off x="2441880" y="4710240"/>
            <a:ext cx="6840" cy="484920"/>
          </a:xfrm>
          <a:prstGeom prst="curvedConnector5">
            <a:avLst>
              <a:gd name="adj1" fmla="val -3350000"/>
              <a:gd name="adj2" fmla="val 50000"/>
              <a:gd name="adj3" fmla="val -33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/>
          <p:nvPr/>
        </p:nvCxnSpPr>
        <p:spPr>
          <a:xfrm flipV="1" rot="16200000">
            <a:off x="1979640" y="4713480"/>
            <a:ext cx="7200" cy="484920"/>
          </a:xfrm>
          <a:prstGeom prst="curvedConnector5">
            <a:avLst>
              <a:gd name="adj1" fmla="val -3347368"/>
              <a:gd name="adj2" fmla="val 50000"/>
              <a:gd name="adj3" fmla="val -334736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717560" y="4830840"/>
            <a:ext cx="88920" cy="88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283360" y="4191120"/>
                <a:ext cx="307944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952960" y="5335560"/>
                <a:ext cx="19670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02" name=""/>
          <p:cNvCxnSpPr/>
          <p:nvPr/>
        </p:nvCxnSpPr>
        <p:spPr>
          <a:xfrm flipV="1" rot="16200000">
            <a:off x="6859800" y="4658040"/>
            <a:ext cx="7200" cy="484920"/>
          </a:xfrm>
          <a:prstGeom prst="curvedConnector5">
            <a:avLst>
              <a:gd name="adj1" fmla="val -3347368"/>
              <a:gd name="adj2" fmla="val 50000"/>
              <a:gd name="adj3" fmla="val -334736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/>
          <p:nvPr/>
        </p:nvCxnSpPr>
        <p:spPr>
          <a:xfrm flipV="1" rot="16200000">
            <a:off x="6397920" y="4660920"/>
            <a:ext cx="6840" cy="484920"/>
          </a:xfrm>
          <a:prstGeom prst="curvedConnector5">
            <a:avLst>
              <a:gd name="adj1" fmla="val -3350000"/>
              <a:gd name="adj2" fmla="val 50000"/>
              <a:gd name="adj3" fmla="val -33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135840" y="4778280"/>
            <a:ext cx="88920" cy="88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127920" y="4197240"/>
                <a:ext cx="5601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800" y="1906560"/>
                <a:ext cx="20703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Percents and Decim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Write a percent for each deci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441440" y="2986200"/>
                <a:ext cx="16272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11" name=""/>
          <p:cNvCxnSpPr/>
          <p:nvPr/>
        </p:nvCxnSpPr>
        <p:spPr>
          <a:xfrm flipV="1" rot="16200000">
            <a:off x="2162520" y="2337120"/>
            <a:ext cx="7200" cy="484920"/>
          </a:xfrm>
          <a:prstGeom prst="curvedConnector5">
            <a:avLst>
              <a:gd name="adj1" fmla="val -3347368"/>
              <a:gd name="adj2" fmla="val 50000"/>
              <a:gd name="adj3" fmla="val -3347368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12" name=""/>
          <p:cNvCxnSpPr/>
          <p:nvPr/>
        </p:nvCxnSpPr>
        <p:spPr>
          <a:xfrm flipV="1" rot="16200000">
            <a:off x="2640240" y="2327400"/>
            <a:ext cx="6840" cy="484920"/>
          </a:xfrm>
          <a:prstGeom prst="curvedConnector5">
            <a:avLst>
              <a:gd name="adj1" fmla="val -3350000"/>
              <a:gd name="adj2" fmla="val 50000"/>
              <a:gd name="adj3" fmla="val -3350000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68480" y="2482920"/>
            <a:ext cx="88920" cy="88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363760" y="1917720"/>
                <a:ext cx="5605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394160" y="1870200"/>
                <a:ext cx="274176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686560" y="2949480"/>
                <a:ext cx="16272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17" name=""/>
          <p:cNvCxnSpPr/>
          <p:nvPr/>
        </p:nvCxnSpPr>
        <p:spPr>
          <a:xfrm flipV="1" rot="16200000">
            <a:off x="6407280" y="2300400"/>
            <a:ext cx="6840" cy="484920"/>
          </a:xfrm>
          <a:prstGeom prst="curvedConnector5">
            <a:avLst>
              <a:gd name="adj1" fmla="val -3350000"/>
              <a:gd name="adj2" fmla="val 50000"/>
              <a:gd name="adj3" fmla="val -3350000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18" name=""/>
          <p:cNvCxnSpPr/>
          <p:nvPr/>
        </p:nvCxnSpPr>
        <p:spPr>
          <a:xfrm flipV="1" rot="16200000">
            <a:off x="6885360" y="2291040"/>
            <a:ext cx="7200" cy="484560"/>
          </a:xfrm>
          <a:prstGeom prst="curvedConnector5">
            <a:avLst>
              <a:gd name="adj1" fmla="val -3347368"/>
              <a:gd name="adj2" fmla="val 49962"/>
              <a:gd name="adj3" fmla="val -3347368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7113600" y="2446200"/>
            <a:ext cx="88920" cy="88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22280" y="4127400"/>
                <a:ext cx="26859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519200" y="5207040"/>
                <a:ext cx="19638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22" name=""/>
          <p:cNvCxnSpPr/>
          <p:nvPr/>
        </p:nvCxnSpPr>
        <p:spPr>
          <a:xfrm flipV="1" rot="16200000">
            <a:off x="2408400" y="4557960"/>
            <a:ext cx="7200" cy="484920"/>
          </a:xfrm>
          <a:prstGeom prst="curvedConnector5">
            <a:avLst>
              <a:gd name="adj1" fmla="val -3347368"/>
              <a:gd name="adj2" fmla="val 50000"/>
              <a:gd name="adj3" fmla="val -3347368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23" name=""/>
          <p:cNvCxnSpPr/>
          <p:nvPr/>
        </p:nvCxnSpPr>
        <p:spPr>
          <a:xfrm flipV="1" rot="16200000">
            <a:off x="2886120" y="4548240"/>
            <a:ext cx="6840" cy="484920"/>
          </a:xfrm>
          <a:prstGeom prst="curvedConnector5">
            <a:avLst>
              <a:gd name="adj1" fmla="val -3350000"/>
              <a:gd name="adj2" fmla="val 50000"/>
              <a:gd name="adj3" fmla="val -3350000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3114720" y="4703760"/>
            <a:ext cx="88920" cy="88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471920" y="4032360"/>
                <a:ext cx="313380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834160" y="5156280"/>
                <a:ext cx="18525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27" name=""/>
          <p:cNvCxnSpPr/>
          <p:nvPr/>
        </p:nvCxnSpPr>
        <p:spPr>
          <a:xfrm flipV="1" rot="16200000">
            <a:off x="6464520" y="4521240"/>
            <a:ext cx="6840" cy="484920"/>
          </a:xfrm>
          <a:prstGeom prst="curvedConnector5">
            <a:avLst>
              <a:gd name="adj1" fmla="val -3350000"/>
              <a:gd name="adj2" fmla="val 50000"/>
              <a:gd name="adj3" fmla="val -3350000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28" name=""/>
          <p:cNvCxnSpPr/>
          <p:nvPr/>
        </p:nvCxnSpPr>
        <p:spPr>
          <a:xfrm flipV="1" rot="16200000">
            <a:off x="6942240" y="4511880"/>
            <a:ext cx="7200" cy="484920"/>
          </a:xfrm>
          <a:prstGeom prst="curvedConnector5">
            <a:avLst>
              <a:gd name="adj1" fmla="val -3347368"/>
              <a:gd name="adj2" fmla="val 50000"/>
              <a:gd name="adj3" fmla="val -3347368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7170840" y="4667400"/>
            <a:ext cx="88920" cy="889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25520" y="1979640"/>
                <a:ext cx="27986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5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ractions and Perc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Write a fraction for each per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868320" y="2828880"/>
                <a:ext cx="1341360" cy="19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922320" y="3935520"/>
                <a:ext cx="124452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062000" y="4645080"/>
                <a:ext cx="1628640" cy="19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08160" y="2959200"/>
                <a:ext cx="11224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100240" y="3852720"/>
                <a:ext cx="11224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697040" y="5745240"/>
                <a:ext cx="10080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721400" y="1943280"/>
                <a:ext cx="246348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068800" y="2779560"/>
                <a:ext cx="1341360" cy="19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122800" y="3886200"/>
                <a:ext cx="12445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495760" y="4667400"/>
                <a:ext cx="1573200" cy="19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281640" y="2938320"/>
                <a:ext cx="11779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272280" y="3830760"/>
                <a:ext cx="11793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6130800" y="5767560"/>
                <a:ext cx="952560" cy="84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57040" y="1979640"/>
                <a:ext cx="313560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50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ractions and Perc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Write a fraction for each per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841320" y="2828880"/>
                <a:ext cx="1397160" cy="19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922320" y="3935520"/>
                <a:ext cx="124452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243160" y="3435480"/>
                <a:ext cx="10666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213000" y="2835360"/>
                <a:ext cx="1341360" cy="19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267000" y="3941640"/>
                <a:ext cx="12445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100320" y="4687920"/>
                <a:ext cx="1852560" cy="19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321080" y="2944800"/>
                <a:ext cx="15163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313160" y="3838680"/>
                <a:ext cx="151632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170240" y="5786280"/>
                <a:ext cx="61596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34800" y="1666800"/>
                <a:ext cx="2630520" cy="20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ractions and Perc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3525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Georgia"/>
              </a:rPr>
              <a:t>Write a percent for each fraction or mixed numb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936880" y="2246400"/>
                <a:ext cx="18543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98440" y="3909960"/>
                <a:ext cx="2630520" cy="20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863800" y="4518000"/>
                <a:ext cx="22478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8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631800" y="3003480"/>
                <a:ext cx="2238480" cy="20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ractions and Perc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3525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Georgia"/>
              </a:rPr>
              <a:t>Write a percent for each fraction or mixed numb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941560" y="3009960"/>
                <a:ext cx="2014560" cy="20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698920" y="5432400"/>
                <a:ext cx="11761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724120" y="1843200"/>
                <a:ext cx="117792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74" name=""/>
          <p:cNvCxnSpPr/>
          <p:nvPr/>
        </p:nvCxnSpPr>
        <p:spPr>
          <a:xfrm flipH="1" rot="16200000">
            <a:off x="3280320" y="3916080"/>
            <a:ext cx="38880" cy="2096280"/>
          </a:xfrm>
          <a:prstGeom prst="curvedConnector5">
            <a:avLst>
              <a:gd name="adj1" fmla="val 1307476"/>
              <a:gd name="adj2" fmla="val 50000"/>
              <a:gd name="adj3" fmla="val 130747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/>
          <p:nvPr/>
        </p:nvCxnSpPr>
        <p:spPr>
          <a:xfrm flipH="1" rot="16200000">
            <a:off x="3317040" y="2125440"/>
            <a:ext cx="38880" cy="2096280"/>
          </a:xfrm>
          <a:prstGeom prst="curvedConnector5">
            <a:avLst>
              <a:gd name="adj1" fmla="val -1474766"/>
              <a:gd name="adj2" fmla="val 50000"/>
              <a:gd name="adj3" fmla="val -147476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743280" y="3179880"/>
                <a:ext cx="9558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5113440" y="3573360"/>
                <a:ext cx="22478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 SKELTON</cp:lastModifiedBy>
  <dcterms:modified xsi:type="dcterms:W3CDTF">2005-03-12T18:26:24Z</dcterms:modified>
  <cp:revision>88</cp:revision>
  <dc:subject/>
  <dc:title>Slide 1</dc:title>
</cp:coreProperties>
</file>